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CB1-C0C6-4E34-8F14-0CA7382B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A52-86CE-4E7F-8D19-D187EFC0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D06-812C-4184-8406-CDDDB614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2A0-FDB9-4C55-B612-460CDC09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2DA-2172-4D0E-BC8E-E794912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4C0-FD46-431F-9383-110B0E9F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BB6-F63B-4294-9D78-738E92C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3C3-8807-44CB-A4D0-49B0AA53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DF3-6915-46B8-B7DD-5C3B6A47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EB5-194A-40F0-AF8A-F5247AD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F4B-996B-4756-910F-1DBB1F5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3AA-32C5-4A73-A01F-C10B71D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568F-EA9C-44AE-9543-AD2E50E7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60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RDERS  ASSOC.                 BORDERS  ASSOC  100TH                      BERWICKSHIRE  ASSOC.                    ABBOTTSFORD                                ABBOTSFORD                           ABOTTSFORD  100TH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76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CRUM                                             AYTON                                              AYTON                                                 BERWICK                                       BERWICK                                        BERWICK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IRNSIDE                                    CHIRNSIDE                                       CHIRNSIDE  75TH                                COLDSTREAM                               COLDSTREAM                                    COLDSTRE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ROUGHTON  PUBLIC                           BUCCLEUGH                                       BUCCLEUGH                                   BUCCLEUGH                                       BUCCLEUGH                                   BUCCLEUGH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1800" y="620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728880" y="6206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68880" y="476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681960" y="47628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37600" y="404640"/>
            <a:ext cx="102384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31800" y="2205000"/>
            <a:ext cx="87804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728880" y="227664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216160" y="2349360"/>
            <a:ext cx="822240" cy="95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168880" y="2133720"/>
            <a:ext cx="122544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753240" y="227664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408880" y="213372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60520" y="378936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00160" y="3789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728880" y="393372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40160" y="3933720"/>
            <a:ext cx="1043280" cy="1024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824520" y="400536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337600" y="3860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04880" y="5877000"/>
            <a:ext cx="89532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144880" y="5805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3800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824520" y="55897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553600" y="5661000"/>
            <a:ext cx="749160" cy="95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384880" y="5300640"/>
            <a:ext cx="947520" cy="1306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2000160" y="333360"/>
            <a:ext cx="1190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3:26:42Z</dcterms:created>
  <dc:creator>JOHN YOUNG</dc:creator>
  <dc:description/>
  <dc:language>en-US</dc:language>
  <cp:lastModifiedBy>JY</cp:lastModifiedBy>
  <dcterms:modified xsi:type="dcterms:W3CDTF">2008-04-29T08:41:01Z</dcterms:modified>
  <cp:revision>28</cp:revision>
  <dc:subject/>
  <dc:title>No Slide Title</dc:title>
</cp:coreProperties>
</file>